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57560" cy="37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8331132-18D8-47B8-8CC5-A4B66198865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3B65D53-F1B1-40B0-8D39-2816A1F75A8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1C97A43-2D43-42EA-AFE7-F36176A25E6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540B006-1DE9-412B-89CE-2480EBDB08C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BB7812B-0687-4B5C-9213-56CC5D7C663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95D45-813A-4361-B93C-E149ACCEB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71073-8E61-49B9-8898-108071D715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FD339-A69F-408E-B7EC-1A8F589519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A93EC-E857-4FA7-843C-077F9F929D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0C5E3-1505-42BF-889E-4E5606365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452B-1840-4B3E-A5F1-7A5559D5C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B218B-F5FD-494A-B05B-F91E4DF6A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DBAD2-DCF6-43CA-A103-81EF00903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1C25-C301-496E-B5C7-7A0467A44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5BB2C-BCE7-4F67-9070-B7CFD25E1F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0956A-7A2F-439A-9170-F52C5BA83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97757-F40E-48F4-97AD-57769ABC2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Picture 8" descr="пр2"/>
          <p:cNvPicPr/>
          <p:nvPr/>
        </p:nvPicPr>
        <p:blipFill>
          <a:blip r:embed="rId2"/>
          <a:stretch/>
        </p:blipFill>
        <p:spPr>
          <a:xfrm>
            <a:off x="0" y="662472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пр 1"/>
          <p:cNvPicPr/>
          <p:nvPr/>
        </p:nvPicPr>
        <p:blipFill>
          <a:blip r:embed="rId3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47000" y="6579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F26A-6F92-453C-A2AD-9054838ED3D7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пр копия"/>
          <p:cNvPicPr/>
          <p:nvPr/>
        </p:nvPicPr>
        <p:blipFill>
          <a:blip r:embed="rId2"/>
          <a:stretch/>
        </p:blipFill>
        <p:spPr>
          <a:xfrm>
            <a:off x="0" y="0"/>
            <a:ext cx="9144000" cy="263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пр2"/>
          <p:cNvPicPr/>
          <p:nvPr/>
        </p:nvPicPr>
        <p:blipFill>
          <a:blip r:embed="rId3"/>
          <a:stretch/>
        </p:blipFill>
        <p:spPr>
          <a:xfrm>
            <a:off x="0" y="6624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079"/>
          <p:cNvSpPr/>
          <p:nvPr/>
        </p:nvSpPr>
        <p:spPr>
          <a:xfrm>
            <a:off x="200160" y="2698920"/>
            <a:ext cx="864684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4649"/>
                </a:solidFill>
                <a:latin typeface="Cambria"/>
              </a:rPr>
              <a:t>Антимонопольный комплае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4649"/>
                </a:solidFill>
                <a:latin typeface="Cambria"/>
              </a:rPr>
              <a:t>в ФАС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1260360" y="1989000"/>
            <a:ext cx="7883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"/>
                <a:ea typeface="Arial"/>
              </a:rPr>
              <a:t>ФЕДЕРАЛЬНАЯ АНТИМОНОПОЛЬНАЯ СЛУЖ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5867280" y="5013360"/>
            <a:ext cx="3129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80"/>
                </a:solidFill>
                <a:latin typeface="Cambria"/>
                <a:ea typeface="Arial"/>
              </a:rPr>
              <a:t>Начальник отдела проектов по развитию конку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80"/>
                </a:solidFill>
                <a:latin typeface="Cambria"/>
                <a:ea typeface="Arial"/>
              </a:rPr>
              <a:t>Правового упра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80"/>
                </a:solidFill>
                <a:latin typeface="Cambria"/>
                <a:ea typeface="Arial"/>
              </a:rPr>
              <a:t>М.Ю. Храмц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179280" y="4749840"/>
            <a:ext cx="65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з чего видно, что ни универсального определения, ни универсального контекста – нет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дно из наиболее часто встречающихся в литературе определений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Риск – потенциальные события, обстоятельства, внешние и внутренние факторы, влияющие на достижение поставленных целей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DEA0-5EA6-4A1E-97C3-26C20750CB36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омплаенс-риск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риск нарушения антимонопольного законодатель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аким образом,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омплаенс-риск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это т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отенциально возможные события, обстоятельства и факторы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поддающиеся определению и оценке, которы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влияют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на наступление такого неблагоприятного события как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нарушение антимонопольного законодательств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8DF9-EDA6-49DB-A6DF-7B239CC92C88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новные этапы антимонопольного комплаенс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Основные этапы внедрения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антимонопольного комплаенса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рганизуем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систему работы (издание правового акта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ыявляем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комплаенс-риски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«Работаем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с комплаенс-рисками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цениваем эффективност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роделанной работы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оклад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4108-350D-44F9-AFB1-710380045639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84A2-C535-4BF3-ABAD-BCEAE741755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http://firststepfitness.ru/images/pictures/complex_lech_form_8.jpg"/>
          <p:cNvPicPr/>
          <p:nvPr/>
        </p:nvPicPr>
        <p:blipFill>
          <a:blip r:embed="rId1"/>
          <a:stretch/>
        </p:blipFill>
        <p:spPr>
          <a:xfrm>
            <a:off x="324000" y="981000"/>
            <a:ext cx="2649240" cy="13352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539640" y="2397240"/>
            <a:ext cx="806472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бщественный совет при ФА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оценка эффективности организации и функционирования антимонопольного комплаенса в ФАС Росс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Уполномоченное подразде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равовое управ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деятельность по организации, обеспечению контроля и анализа эффективности антимонопольного комплаенса в ФАС России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совместно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- Контрольно-финансовым управлением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координация взаимодействия Уполномоченного подразделения с Коллегиальным органом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Управлением государственной служб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проведение служебных проверок и расследов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3316320" y="109224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Организационная структура антимонопольного комплаенса 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68200" y="8892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Организационная структура антимонопольного комплаенса 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D8A9-FEB4-4C3F-A7AD-273D33650C55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5"/>
          <p:cNvSpPr/>
          <p:nvPr/>
        </p:nvSpPr>
        <p:spPr>
          <a:xfrm>
            <a:off x="1042920" y="1754280"/>
            <a:ext cx="19447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уководитель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8"/>
          <p:cNvSpPr/>
          <p:nvPr/>
        </p:nvSpPr>
        <p:spPr>
          <a:xfrm>
            <a:off x="6039000" y="1765440"/>
            <a:ext cx="19443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щественный совет при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16"/>
          <p:cNvSpPr/>
          <p:nvPr/>
        </p:nvSpPr>
        <p:spPr>
          <a:xfrm>
            <a:off x="1042920" y="3678120"/>
            <a:ext cx="19447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Правовое упр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7"/>
          <p:cNvSpPr/>
          <p:nvPr/>
        </p:nvSpPr>
        <p:spPr>
          <a:xfrm>
            <a:off x="1049400" y="4597560"/>
            <a:ext cx="19429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Контрольно-финансовое упр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18"/>
          <p:cNvSpPr/>
          <p:nvPr/>
        </p:nvSpPr>
        <p:spPr>
          <a:xfrm>
            <a:off x="1049400" y="5511960"/>
            <a:ext cx="1938240" cy="869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Управление государственной служб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верх 22"/>
          <p:cNvSpPr/>
          <p:nvPr/>
        </p:nvSpPr>
        <p:spPr>
          <a:xfrm>
            <a:off x="1932120" y="2679840"/>
            <a:ext cx="168120" cy="995400"/>
          </a:xfrm>
          <a:prstGeom prst="upArrow">
            <a:avLst>
              <a:gd name="adj1" fmla="val 50000"/>
              <a:gd name="adj2" fmla="val 5005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трелка вправо 23"/>
          <p:cNvSpPr/>
          <p:nvPr/>
        </p:nvSpPr>
        <p:spPr>
          <a:xfrm>
            <a:off x="2987640" y="2103480"/>
            <a:ext cx="3051360" cy="1666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ьная выноска 24"/>
          <p:cNvSpPr/>
          <p:nvPr/>
        </p:nvSpPr>
        <p:spPr>
          <a:xfrm>
            <a:off x="3635280" y="3251160"/>
            <a:ext cx="4348080" cy="3328920"/>
          </a:xfrm>
          <a:prstGeom prst="wedgeEllipseCallout">
            <a:avLst>
              <a:gd name="adj1" fmla="val -84208"/>
              <a:gd name="adj2" fmla="val -67629"/>
            </a:avLst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НА УТВЕР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ект карты комплаенс-риск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ект ключевых показателей эффективности антимонопольного комплаенс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ект плана мероприятий («дорожной карты») по минимизации комплаенс-риск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ект доклада об антимонопольном комплаенс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ьная выноска 25"/>
          <p:cNvSpPr/>
          <p:nvPr/>
        </p:nvSpPr>
        <p:spPr>
          <a:xfrm>
            <a:off x="3132000" y="1042920"/>
            <a:ext cx="4032360" cy="689040"/>
          </a:xfrm>
          <a:prstGeom prst="wedgeEllipseCallout">
            <a:avLst>
              <a:gd name="adj1" fmla="val -44412"/>
              <a:gd name="adj2" fmla="val 103680"/>
            </a:avLst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</a:rPr>
              <a:t>Доклад об антимонопольном комплаенс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Прямоугольник 26" descr=""/>
          <p:cNvPicPr/>
          <p:nvPr/>
        </p:nvPicPr>
        <p:blipFill>
          <a:blip r:embed="rId1"/>
          <a:stretch/>
        </p:blipFill>
        <p:spPr>
          <a:xfrm>
            <a:off x="139680" y="1719360"/>
            <a:ext cx="701640" cy="479736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28"/>
          <p:cNvSpPr/>
          <p:nvPr/>
        </p:nvSpPr>
        <p:spPr>
          <a:xfrm>
            <a:off x="8290080" y="1763640"/>
            <a:ext cx="671400" cy="477216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Arial"/>
              </a:rPr>
              <a:t>Оценка эффективности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ФНС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Управление контроля налоговых органов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Управление кадров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структурные подразделения центрального аппарата (анализ внутренних документов ФНС, которые могут повлечь нарушение антимонопольного законодательства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ФНС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47F5-D6AC-4226-972D-533089E26382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комсвязь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Советник Министра цифрового развития, связи и массовых коммуникаций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Минкомсвязи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38B8-F833-4F53-AF0A-91B59A42D1EF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природы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Отдел внутреннего финансового аудита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Минприроды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C3F1-3D01-459E-AE20-55599384210A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промторг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Департамент стратегического развития и корпоративной политик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Минпромторге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6818-6BB2-423F-B9F1-12330C4B21E0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строй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Административно-кадровый аппарат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Минстрое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D104-F118-40C3-B8A8-D4F7EC8BE3C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нтимонопольный комплаенс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это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вокупност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равовых и организационных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р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направленных на соблюдение требований антимонопольного законодательства и предупреждение его нарушения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едставляет собой элемен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стемы управления рисками (риск-менеджмент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разработанный в целях предотвращения наступления рисков нарушения антимонопольного законодатель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9208-ED77-424F-AE03-DD001EB112A5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транс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труктурные подразделения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дминистративный департамент (служебные проверки, коррупция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Коллегия Минтранса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F594-986E-4CA0-A2FA-0C6249ACA90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труд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ы (отделы) Министерства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правовой и международной деятельности (свод и доклад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Комиссия по внутреннему контролю за соблюдением соответствия деятельности Минтруда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B6D9-708B-45EE-80ED-875F28AE7810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экономразвития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конкуренции, энергоэффективности и эколог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управления делам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Коллегия Минэкономразвития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15C0-B24B-4DE2-9039-E2C5FFC2FDA2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энерго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Юридический департамент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государственной службы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административной и законопроектной работы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государственной энергетической политик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траслевые структурные подразделения (выявление комплаенс-рисков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Министр, заместители Министра, директор Юридического департамента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D7A9-53D8-4DC8-883E-E03BA75FDED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Роструд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правление планирования, взаимодействия с регионами и контроля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состав формируется приказом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2E98-F3BE-4748-B5A0-EB65D447A94F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CAC6-73A7-4382-91B1-02E3EED1877B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Антимонопольный комплаенс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324000" y="2602080"/>
            <a:ext cx="8208720" cy="38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Идентификация,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анализ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и сравнительная оценка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комплаенс-рисков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ФАС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Составление и описание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карты комплаенс-рисков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ФАС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Разработка плана мероприятий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(«дорожной карты»)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по снижению комплаенс-рис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Подготовка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Доклада об антимонопольном комплаен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Мониторинг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антимонопольного комплаенса на предмет его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совершенств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4" descr=""/>
          <p:cNvPicPr/>
          <p:nvPr/>
        </p:nvPicPr>
        <p:blipFill>
          <a:blip r:embed="rId1"/>
          <a:stretch/>
        </p:blipFill>
        <p:spPr>
          <a:xfrm>
            <a:off x="0" y="907920"/>
            <a:ext cx="2592360" cy="15782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5"/>
          <p:cNvSpPr/>
          <p:nvPr/>
        </p:nvSpPr>
        <p:spPr>
          <a:xfrm>
            <a:off x="2771640" y="1096920"/>
            <a:ext cx="63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Уполномоч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подраз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ыявление и оценка комплаенс-риско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Антимонопольным комплаенсом ФАС России предусмотрено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выявленные комплаенс-риски отражаются в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арте комплаенс-рисков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в карте комплаенс-рисков комплаенс-риски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отражаются в порядке убывани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уровня комплаенс-рисков (4 уровня)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присвоение соответствующего уровня комплаенс-риску осуществляется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 результатам оценки комплаенс-рисков, включающей в себя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дентификацию, анализ и сравнительную оценку комплаенс-риск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79E4-7CB1-4291-BF30-29EC324D6BBE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дентификация (выявление) 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2.15)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ISO 31000:2009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дентификация риск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это процесс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ахождения, распознавания и описания риска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Цель данного шаг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составить исчерпывающий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список рисков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и событий, которые могут повлиять на наступление негативного события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ы идентификации, упоминаемые в национальных стандартах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анализ контрольных листов, анализ экспериментальных данных, а также данных и событий, произошедших в прошлом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индуктивные методы, такие как HAZOP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диаграмма «галстук-бабочка»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описание опасных событий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метод мозгового штурма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метод Дельфи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6DE6-4D69-448C-80A0-3170502F543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EFD7-C49C-4DA1-87E6-8682DEF8361F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Идентификация (выявление) комплаенс-рисков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2124000" y="1009800"/>
            <a:ext cx="698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Источники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для идентификации (выявления) комплаенс-ри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430200" y="2502000"/>
            <a:ext cx="86774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Жалобы на нарушения административных регламентов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утриведомственная апелляц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общения судебной практик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щественная экспертиза действующих нормативных правовых актов и проектов нормативных правовых акт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едложения общественных организаций и организаций научного сообществ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едложения территориальных органов ФАС Росс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108000" y="928800"/>
            <a:ext cx="256536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9F30-E88F-4F19-B146-23D965E98F8A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Идентификация (выявление) комплаенс-рисков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"/>
          <p:cNvSpPr/>
          <p:nvPr/>
        </p:nvSpPr>
        <p:spPr>
          <a:xfrm>
            <a:off x="2124000" y="1009800"/>
            <a:ext cx="698364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Некоторые комплаенс-риски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8c93"/>
                </a:solidFill>
                <a:latin typeface="Arial"/>
                <a:ea typeface="Arial"/>
              </a:rPr>
              <a:t>(по предложениям структурных управлений ФАС Росс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8" descr=""/>
          <p:cNvPicPr/>
          <p:nvPr/>
        </p:nvPicPr>
        <p:blipFill>
          <a:blip r:embed="rId1"/>
          <a:stretch/>
        </p:blipFill>
        <p:spPr>
          <a:xfrm>
            <a:off x="1440" y="981000"/>
            <a:ext cx="1762200" cy="13208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5"/>
          <p:cNvSpPr/>
          <p:nvPr/>
        </p:nvSpPr>
        <p:spPr>
          <a:xfrm>
            <a:off x="216000" y="2360520"/>
            <a:ext cx="871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нятие решений, нарушающих единообразие практики ФАС Росс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рушение сроков рассмотрения ходатайств и поступивших на согласование соглашений хозяйствующих субъе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рушение сроков принятия решений по согласованию проектов предельных отпускных цен на лекарственные препар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гласование   нормативных   правовых   актов   других   органов   власти, положения которых привели или могут привести к недопущению, ограничению, устранению конкуренции на товарных рынк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опущение   процессуальных   нарушений   правил   рассмотрения разногласий и досудебных споров, которые могут привести к отмене судом итогового реш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рушения при закупках для хозяйственных нужд ФАС Рос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именимые национальные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и международные стандарты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ГОСТ Р ИСО/МЭК 3101 – 2011 Методы оценки риска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ГОСТ Р 51901.23 – 2012 Реестр риска. Руководство по оценке опасных событий для включения в реестр риска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Международный стандарт ISO 31000 Риск менеджмент – Принципы и руковод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0E1C-775B-40DB-BB40-F15342237C59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дентификация (выявление) комплаенс-рисков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арианты действий при идентификации (выявлении) комплаенс-рисков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у иных ФОИВ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Сгруппировать все нормы и запреты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установленные антимонопольным и смежным законодательством, контроль за соблюдением которого возложен на ФАС России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роанализировать функци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структурных (отраслевых) управлений через призму возможных нарушений ими антимонопольного законодательств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оанализировать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роцессуальные действи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посредством которых могут быть нарушены требования антимонопольного законодательств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71F3-3DE2-4929-9DF1-0D3A104B4A05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дентификация (выявление) комплаенс-рисков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оследовательно отвечая на вопросы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то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из антимонопольного законодательства может быть нарушено (группы антимонопольных запретов и ограничений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ем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это может быть нарушено (где встречается, в работе каких управлений, подразделений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к (или чем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это может быть нарушено (через какой правовой механизм или процессуальное действие)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6605-F84B-4A8E-B322-719E6FFAE62A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ализ 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п. 2.21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ISO 31000:2009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нализ риск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процесс понимани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ироды риска и определения уровня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риск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Анализ риска включает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анализ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ероятности и последстви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идентифицированных опасных событий с учетом наличия и эффективности применяемых способов управления. Данные о вероятности событий и их последствиях используют для определения уровня риск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анализ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сточников опасных событи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их положительных и отрицательных последствий и вероятностей появления этих событий. При этом должны быть идентифицированы факторы, влияющие на вероятность события и его последствия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59FE-2BE7-4121-8E96-3D5EDB4392AF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ализ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АС Росси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рименяе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атрицу последствий-вероятностей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атрица комплаенс-рисков представляет собой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средство объединения оценок последствий и вероятносте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наступления комплаенс-рисков и применяется для определения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уровн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комплаенс-риска (ранжирования)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атрица комплаенс-рисков должна содержать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определение уровней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вероятност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наступления комплаенс-рисков по оси (шкале) вероятности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определение уровней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последстви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наступления комплаенс-рисков по оси (шкале) последствий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уровни риск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присвоенные каждому значению матрицы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E870-7D89-459B-AD89-C8DC055A0CE0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ализ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атрица рисков могла бы выглядеть следующим образом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9C4D-63B8-4D68-9827-ABD1140070F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2143080"/>
          <a:ext cx="8075520" cy="4022640"/>
        </p:xfrm>
        <a:graphic>
          <a:graphicData uri="http://schemas.openxmlformats.org/drawingml/2006/table">
            <a:tbl>
              <a:tblPr/>
              <a:tblGrid>
                <a:gridCol w="2068560"/>
                <a:gridCol w="1958760"/>
                <a:gridCol w="2024280"/>
                <a:gridCol w="2023920"/>
              </a:tblGrid>
              <a:tr h="3430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вероятности (возможности наступл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ед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значи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р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щест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ероя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мож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23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овероя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равнительная оценка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равнительная оценка комплаенс-риска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«разнесение»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комплаенс-рисков, выявленных 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в процессе идентификации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матрицу комплаенс-рисков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, составленную 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в ходе анализа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комплаенс-рисков,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а также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сстановку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карту комплаенс-рисков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порядке убывания уровня комплаенс-рисков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EB3C-3441-452F-9089-BACF43BD9F1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равнительная оценка комплаенс-рисков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апример, в иных ФОИВ «разнесенные» на матрицу комплаенс-риски могли бы выглядеть так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7C6F-6952-499B-94AF-E0D38B20799D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57200" y="2133720"/>
          <a:ext cx="8229600" cy="4162320"/>
        </p:xfrm>
        <a:graphic>
          <a:graphicData uri="http://schemas.openxmlformats.org/drawingml/2006/table">
            <a:tbl>
              <a:tblPr/>
              <a:tblGrid>
                <a:gridCol w="1547640"/>
                <a:gridCol w="2040120"/>
                <a:gridCol w="2320920"/>
                <a:gridCol w="2320920"/>
              </a:tblGrid>
              <a:tr h="212040">
                <a:tc rowSpan="2"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вероятности (возможности наступления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едств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значите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рен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ществен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ероят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ст.ст. 15, 16 Закона о конкур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48212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мож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ст.ст. 17, 17.1 Закона о защите конкур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правление в адрес территориальных органов, а также неопределенного круга лиц неправомерных разъяснений и иных документов властного характе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0587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овероят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ст.ст. 10, 14.1-14.8, 11, 11.1 Закона о защите конкур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ст.ст. 18, 19-21 Закона о защите конкур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бличные заявления, основанные на позиции, противоречащей антимонопольному законодательств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карты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карте комплаенс-рисков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одлежат включению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в порядке убывания уровня комплаенс-риск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выявленные и проанализированные в ходе оценки комплаенс-рисков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ме того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в карту комплаенс-рисков ФАС России подлежат включению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выявленны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риск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(их описание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описани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ричин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возникновения рисков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описани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условий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возникновения рисков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1425-9977-43C9-A715-95955CF5CAAF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карты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апример, карта комплаенс-рисков ФАС России могла бы выглядеть следующим образом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731C-8FB2-416D-9EA0-3731CACE5D36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57200" y="1889280"/>
          <a:ext cx="8229600" cy="3948120"/>
        </p:xfrm>
        <a:graphic>
          <a:graphicData uri="http://schemas.openxmlformats.org/drawingml/2006/table">
            <a:tbl>
              <a:tblPr/>
              <a:tblGrid>
                <a:gridCol w="773280"/>
                <a:gridCol w="2049120"/>
                <a:gridCol w="2662560"/>
                <a:gridCol w="2744640"/>
              </a:tblGrid>
              <a:tr h="78876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 р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 риска (опис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чины возникновения (опис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ловия возникновения (опис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67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нятие ФАС России неправомерного решения, повлекшего за собой нарушение ст.ст. 15, 16 Закона о конкур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ошибочное применение материальных и процессуальных норм пра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недостаточная подготовленность к процесс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недостаточная координация процесса со стороны руководител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чрезмерная загрузка работни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Дорожная карта» мероприятий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лан мероприятий («дорожная карта»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 снижению комплаенс-риско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должен содержать в разрезе каждого комплаенс-риска (согласно карте комплаенс-рисков ФАС России)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онкретные мероприятия, необходимые для устранения выявленных рисков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утверждается руководителем ФАС России в срок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 позднее 31 декабря год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предшествующему году, на который планируются мероприятия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информация об исполнении «дорожной карты» подлежит включению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доклад об антимонопольном комплаенс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B485-8EDF-44DE-A316-8FC5058CD02E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еждународный Стандарт ISO 31000:2009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иск менеджмент – Принципы и руковод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ункт 2.1: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Риск – Влияние неопределенности на цел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1: Влияние рассматривается как отклонение от ожидаемого — с позитивными или негативными последствиями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2: Цели могут иметь различные аспекты (такие как финансовые; аспекты, касающиеся профессиональной безопасности и здоровья; экологические задачи) и могут относиться к различным уровням (таким как стратегический уровень, организационный, уровень проекта, продукции и процесса)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3: риск часто характеризуется отношением к потенциальным событиям (2.19) и последствиям (2.20) или сочетанию данных пунктов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4: риск часто выражается в комбинации последствий событий (включая изменения в обстоятельствах) и связанной с ними вероятности (2.21) инцидентов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5: неопределенность — это состояние, также частично, отсутствия информации относительно понимания или знания события, его последствий или вероятности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FD2C-C351-4550-9BA4-1FDD56C5547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оклад об антимонопольном комплаенсе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Доклад об антимонопольном комплаенсе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едставляе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(Общественный совет при ФАС России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рок -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е позднее 01 апреля год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следующего за отчетным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олжен содержать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) информацию о результатах проведенной оценки комплаенс-рисков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б) информацию об исполнении мероприятий по снижению комплаенс-рисков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) информацию о достижении ключевых показателей эффективности антимонопольного комплаенс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D27A-D965-4ECF-A930-585EC0999ED7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1066680" y="75564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Arial"/>
              </a:rPr>
              <a:t>СПАСИБО ЗА ВНИМАНИЕ!</a:t>
            </a: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1"/>
          <p:cNvGrpSpPr/>
          <p:nvPr/>
        </p:nvGrpSpPr>
        <p:grpSpPr>
          <a:xfrm>
            <a:off x="2644920" y="2631960"/>
            <a:ext cx="4343400" cy="2179800"/>
            <a:chOff x="2644920" y="2631960"/>
            <a:chExt cx="4343400" cy="2179800"/>
          </a:xfrm>
        </p:grpSpPr>
        <p:pic>
          <p:nvPicPr>
            <p:cNvPr id="232" name="Picture 5" descr="FAS-logo-color.jpg"/>
            <p:cNvPicPr/>
            <p:nvPr/>
          </p:nvPicPr>
          <p:blipFill>
            <a:blip r:embed="rId1"/>
            <a:stretch/>
          </p:blipFill>
          <p:spPr>
            <a:xfrm>
              <a:off x="2797200" y="2631960"/>
              <a:ext cx="53316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6" descr="14098_427100966728_20531316728_5146316_6182604_n.jpg"/>
            <p:cNvPicPr/>
            <p:nvPr/>
          </p:nvPicPr>
          <p:blipFill>
            <a:blip r:embed="rId2"/>
            <a:stretch/>
          </p:blipFill>
          <p:spPr>
            <a:xfrm>
              <a:off x="2797200" y="3405240"/>
              <a:ext cx="53316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7" descr="twitter_newbird_blue.png"/>
            <p:cNvPicPr/>
            <p:nvPr/>
          </p:nvPicPr>
          <p:blipFill>
            <a:blip r:embed="rId3"/>
            <a:stretch/>
          </p:blipFill>
          <p:spPr>
            <a:xfrm>
              <a:off x="2644920" y="4038480"/>
              <a:ext cx="83808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Box 8"/>
            <p:cNvSpPr/>
            <p:nvPr/>
          </p:nvSpPr>
          <p:spPr>
            <a:xfrm>
              <a:off x="3505320" y="2701800"/>
              <a:ext cx="3330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333399"/>
                  </a:solidFill>
                  <a:latin typeface="Arial"/>
                  <a:ea typeface="Arial"/>
                </a:rPr>
                <a:t>www.fas.gov.ru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9"/>
            <p:cNvSpPr/>
            <p:nvPr/>
          </p:nvSpPr>
          <p:spPr>
            <a:xfrm>
              <a:off x="3505320" y="3414600"/>
              <a:ext cx="3330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333399"/>
                  </a:solidFill>
                  <a:latin typeface="Arial"/>
                  <a:ea typeface="Arial"/>
                </a:rPr>
                <a:t>FAS-book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10"/>
            <p:cNvSpPr/>
            <p:nvPr/>
          </p:nvSpPr>
          <p:spPr>
            <a:xfrm>
              <a:off x="3505320" y="4108680"/>
              <a:ext cx="3483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333399"/>
                  </a:solidFill>
                  <a:latin typeface="Arial"/>
                  <a:ea typeface="Arial"/>
                </a:rPr>
                <a:t>rus_fa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Этимология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«Риск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- от староитальянско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risicare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означающе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«отваживаться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«Риск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- от французско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risque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означающе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«опасность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«Риск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- от греческо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rizikon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означающе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«утес», «скала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49AB-CE59-4DA7-BA24-396F9C397595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Риск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опасност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возникновения непредвиденных потерь ожидаемой прибыли, дохода или имущества, денежных средств, других ресурсов в связи со случайным изменением условий экономической деятельности, неблагоприятными обстоятельствами. Измеряется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частотой, вероятностью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озникновения того или ино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уровня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отерь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(Райзберг Б.А., Лозовский Л.Ш., Стародубцева Е.Б. «Современный экономический словарь»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2BBE-415D-4AC9-942B-F1871CCD1B9D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Следует отделять от смежных понятий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Вероятность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– отношение благоприятных исходов к общему числу возможных исходов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Шансы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– отношение числа благоприятных исходов к числу неблагоприятных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Угроза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– это неисследованное негативное событие, которое затруднительно оценить при оценке риска, потому что это событие никогда не происходило, и по нему не доступна никакая информация о эффективных профилактических мерах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3D1E-4D51-42C6-91E0-F8609B4D81BD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Стандарт Банка Росси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«Обеспечение информационной безопасности организаций банковской системы Российской Федерации. Общие положения» СТО БР ИББС-1.0-2014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3.20.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гроза: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Опасност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предполагающая возможность потерь (ущерба)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3.21.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иск: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Мер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учитывающая вероятность реализации угрозы и величину потерь (ущерба) от реализации этой угрозы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5F57-5EC9-4B35-B153-D4E85D527B2D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Указ Президента РФ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от 31.12.2015 № 683 «О Стратегии национальной безопасности Российской Федерации»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56.)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Главными стратегическими 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угрозами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национальной безопасности в области экономики являются ее низкая конкурентоспособность, сохранение экспортно-сырьевой модели развития и высокая зависимость от внешнеэкономической конъюнктуры..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24.)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… На фоне структурных дисбалансов в мировой экономике и финансовой системе, растущей суверенной задолженности, волатильности рынка энергоресурсов сохраняется высокий 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риск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повторения масштабных финансово-экономических кризисов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55DD-E652-4202-8BDD-60992DC916D5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7:02:51Z</dcterms:created>
  <dc:creator>Кашунина Ирина Валерьевна</dc:creator>
  <dc:description/>
  <dc:language>en-US</dc:language>
  <cp:lastModifiedBy>Бабошина Алина Олеговна</cp:lastModifiedBy>
  <cp:lastPrinted>2018-10-05T11:20:15Z</cp:lastPrinted>
  <dcterms:modified xsi:type="dcterms:W3CDTF">2019-01-25T11:13:07Z</dcterms:modified>
  <cp:revision>1921</cp:revision>
  <dc:subject/>
  <dc:title>Слайд 1</dc:title>
</cp:coreProperties>
</file>