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575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C391FFF-BD66-4B7F-910F-E3C89F1A3C9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4FDDBFD-BEC8-4351-9D97-1CF087022FA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B71325F-0663-4085-AE66-1E21C1E5860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1D98F2-9950-463A-B182-98390AD2426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132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0F0EA3-488A-486A-B4C5-EFABB18311D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8F6F-B6B7-4B08-8F32-8C18BED2E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17F6-E7D1-40B4-BC23-0B176966B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031C-FCD9-4ABA-8E18-12954883F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1397-5551-4416-87A5-914DA4C44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9C91-FA35-4ADD-B04E-A4D34FB9C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81A9-6E25-4037-8C9B-51F9B6ECE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C1D6-07AA-4AB3-ADD9-9FFC7F8CB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0EF2-BADE-4411-A627-95AEA37B1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CE1C-938C-4F17-9971-BD1B1E108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6750-7FEE-4E8E-B77B-D811CF758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AE6D-62E8-44CD-B785-63A45376D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C6B5-D4B8-41A0-8FF1-948E6DA52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47000" y="6579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3415-53F2-41EF-A6A1-1F3752554A8B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914400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079"/>
          <p:cNvSpPr/>
          <p:nvPr/>
        </p:nvSpPr>
        <p:spPr>
          <a:xfrm>
            <a:off x="200160" y="2698920"/>
            <a:ext cx="864684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Cambria"/>
              </a:rPr>
              <a:t>Антимонопольный комплае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4649"/>
                </a:solidFill>
                <a:latin typeface="Cambria"/>
              </a:rPr>
              <a:t>в ФАС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1260360" y="1989000"/>
            <a:ext cx="7883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Arial"/>
                <a:ea typeface="Arial"/>
              </a:rPr>
              <a:t>ФЕДЕРАЛЬНАЯ АНТИМОНОПОЛЬНАЯ СЛ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5867280" y="5013360"/>
            <a:ext cx="3129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Начальник отдела проектов по развитию конку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Правового 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80"/>
                </a:solidFill>
                <a:latin typeface="Cambria"/>
                <a:ea typeface="Arial"/>
              </a:rPr>
              <a:t>М.Ю. Храмц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"/>
          <p:cNvSpPr/>
          <p:nvPr/>
        </p:nvSpPr>
        <p:spPr>
          <a:xfrm>
            <a:off x="179280" y="474984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з чего видно, что ни универсального определения, ни универсального контекста – нет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дно из наиболее часто встречающихся в литературе определений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иск – потенциальные события, обстоятельства, внешние и внутренние факторы, влияющие на достижение поставленных целей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FC5E-AE6E-4090-8A5E-162A4FDD71A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мплаенс-риск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риск нарушения антимонопольного законодатель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аким образом,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мплаенс-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это т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отенциально возможные события, обстоятельства и факторы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оддающиеся определению и оценке, которы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влияют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на наступление такого неблагоприятного события как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нарушение антимонопольного законодательств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B7E6-6D78-4472-8915-062A27DAF35B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этапы антимонопольного комплаенс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Основные этапы внедрения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антимонопольного комплаенса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рганизу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систему работы (издание правового акта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явля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комплаенс-риски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Работаем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с комплаенс-рисками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цениваем эффектив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оделанной работы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оклад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3BE1-7931-47BB-9302-88853931168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8CDD-6EBB-43B2-93CE-671BACB43D3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http://firststepfitness.ru/images/pictures/complex_lech_form_8.jpg"/>
          <p:cNvPicPr/>
          <p:nvPr/>
        </p:nvPicPr>
        <p:blipFill>
          <a:blip r:embed="rId1"/>
          <a:stretch/>
        </p:blipFill>
        <p:spPr>
          <a:xfrm>
            <a:off x="324000" y="981000"/>
            <a:ext cx="2649240" cy="1335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539640" y="2397240"/>
            <a:ext cx="806472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бщественный совет при ФА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ценка эффективности организации и функционирования антимонопольного комплаенса в ФАС Рос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  <a:ea typeface="Arial"/>
              </a:rPr>
              <a:t>Уполномоченное подразде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равовое у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деятельность по организации, обеспечению контроля и анализа эффективности антимонопольного комплаенса в ФАС России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совместно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- Контрольно-финансовым управление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координация взаимодействия Уполномоченного подразделения с Коллегиальным органом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Управлением государственной служб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проведение служебных проверок и расследов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316320" y="109224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68200" y="8892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06C9-CA1C-40D8-8D30-654D5CA8B13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5"/>
          <p:cNvSpPr/>
          <p:nvPr/>
        </p:nvSpPr>
        <p:spPr>
          <a:xfrm>
            <a:off x="1042920" y="1754280"/>
            <a:ext cx="194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уководитель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8"/>
          <p:cNvSpPr/>
          <p:nvPr/>
        </p:nvSpPr>
        <p:spPr>
          <a:xfrm>
            <a:off x="6039000" y="1765440"/>
            <a:ext cx="194436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щественный совет при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6"/>
          <p:cNvSpPr/>
          <p:nvPr/>
        </p:nvSpPr>
        <p:spPr>
          <a:xfrm>
            <a:off x="1042920" y="3678120"/>
            <a:ext cx="194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Правов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7"/>
          <p:cNvSpPr/>
          <p:nvPr/>
        </p:nvSpPr>
        <p:spPr>
          <a:xfrm>
            <a:off x="1049400" y="4597560"/>
            <a:ext cx="19429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Контрольно-финансов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8"/>
          <p:cNvSpPr/>
          <p:nvPr/>
        </p:nvSpPr>
        <p:spPr>
          <a:xfrm>
            <a:off x="1049400" y="5511960"/>
            <a:ext cx="1938240" cy="869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Управление государственной служ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верх 22"/>
          <p:cNvSpPr/>
          <p:nvPr/>
        </p:nvSpPr>
        <p:spPr>
          <a:xfrm>
            <a:off x="1932120" y="2679840"/>
            <a:ext cx="168120" cy="995400"/>
          </a:xfrm>
          <a:prstGeom prst="upArrow">
            <a:avLst>
              <a:gd name="adj1" fmla="val 50000"/>
              <a:gd name="adj2" fmla="val 5005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трелка вправо 23"/>
          <p:cNvSpPr/>
          <p:nvPr/>
        </p:nvSpPr>
        <p:spPr>
          <a:xfrm>
            <a:off x="2987640" y="2103480"/>
            <a:ext cx="3051360" cy="1666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ьная выноска 24"/>
          <p:cNvSpPr/>
          <p:nvPr/>
        </p:nvSpPr>
        <p:spPr>
          <a:xfrm>
            <a:off x="3635280" y="3251160"/>
            <a:ext cx="4348080" cy="3328920"/>
          </a:xfrm>
          <a:prstGeom prst="wedgeEllipseCallout">
            <a:avLst>
              <a:gd name="adj1" fmla="val -84208"/>
              <a:gd name="adj2" fmla="val -67629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НА УТВЕР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карты комплаенс-рис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ключевых показателей эффективности антимонопольного комплаенс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плана мероприятий («дорожной карты») по минимизации комплаенс-риск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Проект доклада об антимонопольном комплаенс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ьная выноска 25"/>
          <p:cNvSpPr/>
          <p:nvPr/>
        </p:nvSpPr>
        <p:spPr>
          <a:xfrm>
            <a:off x="3132000" y="1042920"/>
            <a:ext cx="4032360" cy="689040"/>
          </a:xfrm>
          <a:prstGeom prst="wedgeEllipseCallout">
            <a:avLst>
              <a:gd name="adj1" fmla="val -44412"/>
              <a:gd name="adj2" fmla="val 103680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</a:rPr>
              <a:t>Доклад об антимонопольном комплаенс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Прямоугольник 26" descr=""/>
          <p:cNvPicPr/>
          <p:nvPr/>
        </p:nvPicPr>
        <p:blipFill>
          <a:blip r:embed="rId1"/>
          <a:stretch/>
        </p:blipFill>
        <p:spPr>
          <a:xfrm>
            <a:off x="139680" y="1719360"/>
            <a:ext cx="701640" cy="479736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28"/>
          <p:cNvSpPr/>
          <p:nvPr/>
        </p:nvSpPr>
        <p:spPr>
          <a:xfrm>
            <a:off x="8290080" y="1763640"/>
            <a:ext cx="671400" cy="477216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Arial"/>
              </a:rPr>
              <a:t>Оценка эффективности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ФНС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Управление контроля налоговых органов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Управление кадров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структурные подразделения центрального аппарата (анализ внутренних документов ФНС, которые могут повлечь нарушение антимонопольного законодательства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ФНС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621D-2418-4D5A-A3D7-8CB4F6348270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комсвязь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Советник Министра цифрового развития, связи и массовых коммуникаций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комсвязи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8DF7-E631-4723-8563-BF249E1D6ED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природы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тдел внутреннего финансового аудит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природы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9F49-26AE-4C35-95A9-ED029E28870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промторг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Департамент стратегического развития и корпоративной политик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промторге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9146-0E86-4E24-8BF1-A74457C8F45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строй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дминистративно-кадровый аппарат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Общественный совет при Минстрое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DA7B-BB1C-469A-BF14-2DE11F3C771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нтимонопольный комплаенс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это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вокуп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авовых и организационных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направленных на соблюдение требований антимонопольного законодательства и предупреждение его нарушен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едставляет собой элемен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стемы управления рисками (риск-менеджмент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разработанный в целях предотвращения наступления рисков нарушения антимонопольного законодатель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337F-3FDA-4C60-AF55-8F930DEC262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транс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труктурные подразделения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дминистративный департамент (служебные проверки, коррупция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ллегия Минтранса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CE9A-779E-4C2C-99A0-2279BFEB19F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труд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ы (отделы) Министерства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правовой и международной деятельности (свод и доклад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миссия по внутреннему контролю за соблюдением соответствия деятельности Минтруда Росс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F92D-0D54-4FB4-A659-2ECB6945193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экономразвития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конкуренции, энергоэффективности и экологи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управления делам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Коллегия Минэкономразвити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738B-5560-4152-9CA2-F02C18A9301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Минэнерго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Юридический департамент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государственной службы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административной и законопроектной работы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епартамент государственной энергетической политики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раслевые структурные подразделения (выявление комплаенс-рисков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Министр, заместители Министра, директор Юридического департамент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E316-8754-48B9-BC44-EF9B9CAD155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рганизационная структура антимонопольного комплаенса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Роструд Росси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Уполномоченное подразделение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правление планирования, взаимодействия с регионами и контрол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состав формируется приказом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A195-B429-4F57-866C-A51797B2E20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CE9B-7160-41AC-8383-69AB853DC63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Антимонопольный комплаенс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324000" y="2602080"/>
            <a:ext cx="820872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Идентификация,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анализ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и сравнительная оценка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комплаенс-рисков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ФАС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Составление и описание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карты комплаенс-рисков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ФАС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Разработка плана мероприятий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(«дорожной карты»)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по снижению комплаенс-рис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Подготовка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Доклада об антимонопольном комплаенс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Мониторинг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антимонопольного комплаенса на предмет его</a:t>
            </a:r>
            <a:r>
              <a:rPr b="0" lang="ru-RU" sz="22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993300"/>
                </a:solidFill>
                <a:latin typeface="Arial"/>
                <a:ea typeface="Arial"/>
              </a:rPr>
              <a:t>совершенств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/>
          <a:stretch/>
        </p:blipFill>
        <p:spPr>
          <a:xfrm>
            <a:off x="0" y="907920"/>
            <a:ext cx="2592360" cy="15782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2771640" y="1096920"/>
            <a:ext cx="63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Уполномоч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подраз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ыявление и оценка комплаенс-риско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Антимонопольным комплаенсом ФАС России предусмотрено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выявленные комплаенс-риски отражаются в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карте комплаенс-рисков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в карте комплаенс-рисков комплаенс-риски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отражаются в порядке убыван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уровня комплаенс-рисков (4 уровня)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присвоение соответствующего уровня комплаенс-риску осуществляется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 результатам оценки комплаенс-рисков, включающей в себя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дентификацию, анализ и сравнительную оценку комплаенс-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115F-4844-41CD-B692-1EAA6D9C460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2.15)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ISO 31000:2009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дентификация 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это процесс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хождения, распознавания и описания риска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Цель данного шаг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составить исчерпывающий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писок рисков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 событий, которые могут повлиять на наступление негативного события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идентификации, упоминаемые в национальных стандартах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анализ контрольных листов, анализ экспериментальных данных, а также данных и событий, произошедших в прошлом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индуктивные методы, такие как HAZOP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диаграмма «галстук-бабочка»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описание опасных событий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метод мозгового штурма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 метод Дельфи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C681-6B5A-4057-B2B8-CF91B19C50E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7B31-96C4-45DF-BFC1-396BAA9AF1B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2124000" y="1009800"/>
            <a:ext cx="698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Источни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для идентификации (выявления) комплаенс-р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430200" y="2502000"/>
            <a:ext cx="86774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алобы на нарушения административных регламентов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иведомственная апелляц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общения судебной практик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ественная экспертиза действующих нормативных правовых актов и проектов нормативных правовых акт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ложения общественных организаций и организаций научного сообществ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ложения территориальных органов ФАС Росс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108000" y="928800"/>
            <a:ext cx="25653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1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5CDA-6D51-4A32-A3F3-1CED24C9CD7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в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2124000" y="1009800"/>
            <a:ext cx="69836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Некоторые комплаенс-риски ФАС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8c93"/>
                </a:solidFill>
                <a:latin typeface="Arial"/>
                <a:ea typeface="Arial"/>
              </a:rPr>
              <a:t>(по предложениям структурных управлений ФАС Росс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8" descr=""/>
          <p:cNvPicPr/>
          <p:nvPr/>
        </p:nvPicPr>
        <p:blipFill>
          <a:blip r:embed="rId1"/>
          <a:stretch/>
        </p:blipFill>
        <p:spPr>
          <a:xfrm>
            <a:off x="1440" y="981000"/>
            <a:ext cx="1762200" cy="13208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5"/>
          <p:cNvSpPr/>
          <p:nvPr/>
        </p:nvSpPr>
        <p:spPr>
          <a:xfrm>
            <a:off x="216000" y="2360520"/>
            <a:ext cx="871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нятие решений, нарушающих единообразие практики ФАС Росс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е сроков рассмотрения ходатайств и поступивших на согласование соглашений хозяйствующих субъ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е сроков принятия решений по согласованию проектов предельных отпускных цен на лекарственные препар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гласование   нормативных   правовых   актов   других   органов   власти, положения которых привели или могут привести к недопущению, ограничению, устранению конкуренции на товарных рынк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пущение   процессуальных   нарушений   правил   рассмотрения разногласий и досудебных споров, которые могут привести к отмене судом итогового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рушения при закупках для хозяйственных нужд ФАС Ро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именимые национальны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и международные стандарты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ГОСТ Р ИСО/МЭК 3101 – 2011 Методы оценки риск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ГОСТ Р 51901.23 – 2012 Реестр риска. Руководство по оценке опасных событий для включения в реестр риск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Международный стандарт ISO 31000 Риск менеджмент – Принципы и руковод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B79C-5154-4E7C-9D37-9C45116D7D4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арианты действий при идентификации (выявлении) комплаенс-рисков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у иных ФОИ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группировать все нормы и запреты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установленные антимонопольным и смежным законодательством, контроль за соблюдением которого возложен на ФАС России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роанализировать функ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структурных (отраслевых) управлений через призму возможных нарушений ими антимонопольного законодательств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анализировать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роцессуальные действи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посредством которых могут быть нарушены требования антимонопольного законодательств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14BE-CB2C-4A0A-A668-DA010359DE9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дентификация (выявление) комплаенс-рисков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оследовательно отвечая на вопросы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из антимонопольного законодательства может быть нарушено (группы антимонопольных запретов и ограничений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ем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это может быть нарушено (где встречается, в работе каких управлений, подразделений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ак (или чем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это может быть нарушено (через какой правовой механизм или процессуальное действие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4D41-7EFE-4CAC-BBE9-293AFAA42AA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п. 2.21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ISO 31000:2009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нализ риск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роцесс понимани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роды риска и определения уровн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риск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Анализ риска включает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нализ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ероятности и последств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дентифицированных опасных событий с учетом наличия и эффективности применяемых способов управления. Данные о вероятности событий и их последствиях используют для определения уровня риск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анализ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чников опасных событ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их положительных и отрицательных последствий и вероятностей появления этих событий. При этом должны быть идентифицированы факторы, влияющие на вероятность события и его последствия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F5B7-FB84-467A-84A7-A006203080A0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АС Росси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рименяе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атрицу последствий-вероятносте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комплаенс-рисков представляет собо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средство объединения оценок последствий и вероятносте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и применяется для определения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ровня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комплаенс-риска (ранжирования)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комплаенс-рисков должна содержать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пределение уровне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вероятност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по оси (шкале) вероятности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определение уровней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последствий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наступления комплаенс-рисков по оси (шкале) последствий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ровни риск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присвоенные каждому значению матрицы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737E-0301-40AE-B5D0-390C0B3FA37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ализ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атрица рисков могла бы выглядеть следующим образом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40A4-C50E-497E-8791-3D1EBB7D40B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2143080"/>
          <a:ext cx="8075520" cy="4022640"/>
        </p:xfrm>
        <a:graphic>
          <a:graphicData uri="http://schemas.openxmlformats.org/drawingml/2006/table">
            <a:tbl>
              <a:tblPr/>
              <a:tblGrid>
                <a:gridCol w="2068560"/>
                <a:gridCol w="1958760"/>
                <a:gridCol w="2024280"/>
                <a:gridCol w="2023920"/>
              </a:tblGrid>
              <a:tr h="343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вероятности (возможности наступл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значи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р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щест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ероя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23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вероя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а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разнесение»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комплаенс-рисков, выявленных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в процессе идентификации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матрицу комплаенс-рисков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, составленную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в ходе анализа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комплаенс-рисков,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 также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сстановку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рту комплаенс-рисков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 порядке убывания уровня комплаенс-рисков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69F1-C324-4060-9348-907ADC55E35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равнительная оценка комплаенс-рисков в иных ФОИ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пример, в иных ФОИВ «разнесенные» на матрицу комплаенс-риски могли бы выглядеть так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F9DA-F03C-418E-93CE-F3A6B0B0FA9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2133720"/>
          <a:ext cx="8229600" cy="4162320"/>
        </p:xfrm>
        <a:graphic>
          <a:graphicData uri="http://schemas.openxmlformats.org/drawingml/2006/table">
            <a:tbl>
              <a:tblPr/>
              <a:tblGrid>
                <a:gridCol w="1547640"/>
                <a:gridCol w="2040120"/>
                <a:gridCol w="2320920"/>
                <a:gridCol w="2320920"/>
              </a:tblGrid>
              <a:tr h="212040">
                <a:tc rowSpan="2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вероятности (возможности наступления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значите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р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ществен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ероят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5, 16 Закона о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4821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7, 17.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авление в адрес территориальных органов, а также неопределенного круга лиц неправомерных разъяснений и иных документов властного характе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0587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ловероятн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0, 14.1-14.8, 11, 11.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ушение ст.ст. 18, 19-21 Закона о защите конкурен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убличные заявления, основанные на позиции, противоречащей антимонопольному законодательств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карты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карте комплаенс-риско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одлежат включению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порядке убывания уровня комплаенс-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выявленные и проанализированные в ходе оценки комплаенс-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ме тог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в карту комплаенс-рисков ФАС России подлежат включению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выявленны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рис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(их описание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описани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ричин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рисков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описание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условий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1252-0C3E-47DE-B937-EF2BF9220E7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карты комплаенс-рисков 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пример, карта комплаенс-рисков ФАС России могла бы выглядеть следующим образом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247C-9059-4054-B467-CE1C998FAFE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57200" y="1889280"/>
          <a:ext cx="8229600" cy="3948120"/>
        </p:xfrm>
        <a:graphic>
          <a:graphicData uri="http://schemas.openxmlformats.org/drawingml/2006/table">
            <a:tbl>
              <a:tblPr/>
              <a:tblGrid>
                <a:gridCol w="773280"/>
                <a:gridCol w="2049120"/>
                <a:gridCol w="2662560"/>
                <a:gridCol w="2744640"/>
              </a:tblGrid>
              <a:tr h="7887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риска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чины возникновения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ия возникновения (опис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67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нятие ФАС России неправомерного решения, повлекшего за собой нарушение ст.ст. 15, 16 Закона о конкур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ошибочное применение материальных и процессуальных норм пра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едостаточная подготовленность к процессу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едостаточная координация процесса со стороны руководител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чрезмерная загрузка работ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 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Дорожная карта» мероприятий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План мероприятий («дорожная карта»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снижению комплаенс-рисков ФАС Росс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должен содержать в разрезе каждого комплаенс-риска (согласно карте комплаенс-рисков ФАС России)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онкретные мероприятия, необходимые для устранения выявленных рис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утверждается руководителем ФАС России в срок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 позднее 31 декабря год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редшествующему году, на который планируются мероприят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информация об исполнении «дорожной карты» подлежит включению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доклад об антимонопольном комплаенс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07EA-EE6C-4AA6-8C03-82A7AABE64A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еждународный Стандарт ISO 31000:2009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иск менеджмент – Принципы и руковод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ункт 2.1: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Риск – Влияние неопределенности на цел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1: Влияние рассматривается как отклонение от ожидаемого — с позитивными или негативными последствиями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2: Цели могут иметь различные аспекты (такие как финансовые; аспекты, касающиеся профессиональной безопасности и здоровья; экологические задачи) и могут относиться к различным уровням (таким как стратегический уровень, организационный, уровень проекта, продукции и процесса)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3: риск часто характеризуется отношением к потенциальным событиям (2.19) и последствиям (2.20) или сочетанию данных пунктов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4: риск часто выражается в комбинации последствий событий (включая изменения в обстоятельствах) и связанной с ними вероятности (2.21) инцидентов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ИМЕЧАНИЕ 5: неопределенность — это состояние, также частично, отсутствия информации относительно понимания или знания события, его последствий или вероятности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07AB-332F-4BA6-8AA2-A840CFDBBAD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оклад об антимонопольном комплаенс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Доклад об антимонопольном комплаенс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едставля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Коллегиальный орга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(Общественный совет при ФАС России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рок -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е позднее 01 апреля год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следующего за отчетным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олжен содержать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) информацию о результатах проведенной оценки комплаенс-рисков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) информацию об исполнении мероприятий по снижению комплаенс-рисков;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) информацию о достижении ключевых показателей эффективности антимонопольного комплаенса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395A-9487-49AA-B1C1-C6AB634D28F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1066680" y="75564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  <a:ea typeface="Arial"/>
              </a:rPr>
              <a:t>СПАСИБО ЗА ВНИМАНИЕ!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1"/>
          <p:cNvGrpSpPr/>
          <p:nvPr/>
        </p:nvGrpSpPr>
        <p:grpSpPr>
          <a:xfrm>
            <a:off x="2644920" y="2631960"/>
            <a:ext cx="4343400" cy="2179800"/>
            <a:chOff x="2644920" y="2631960"/>
            <a:chExt cx="4343400" cy="2179800"/>
          </a:xfrm>
        </p:grpSpPr>
        <p:pic>
          <p:nvPicPr>
            <p:cNvPr id="232" name="Picture 5" descr="FAS-logo-color.jpg"/>
            <p:cNvPicPr/>
            <p:nvPr/>
          </p:nvPicPr>
          <p:blipFill>
            <a:blip r:embed="rId1"/>
            <a:stretch/>
          </p:blipFill>
          <p:spPr>
            <a:xfrm>
              <a:off x="2797200" y="2631960"/>
              <a:ext cx="53316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6" descr="14098_427100966728_20531316728_5146316_6182604_n.jpg"/>
            <p:cNvPicPr/>
            <p:nvPr/>
          </p:nvPicPr>
          <p:blipFill>
            <a:blip r:embed="rId2"/>
            <a:stretch/>
          </p:blipFill>
          <p:spPr>
            <a:xfrm>
              <a:off x="2797200" y="3405240"/>
              <a:ext cx="53316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7" descr="twitter_newbird_blue.png"/>
            <p:cNvPicPr/>
            <p:nvPr/>
          </p:nvPicPr>
          <p:blipFill>
            <a:blip r:embed="rId3"/>
            <a:stretch/>
          </p:blipFill>
          <p:spPr>
            <a:xfrm>
              <a:off x="2644920" y="4038480"/>
              <a:ext cx="8380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8"/>
            <p:cNvSpPr/>
            <p:nvPr/>
          </p:nvSpPr>
          <p:spPr>
            <a:xfrm>
              <a:off x="3505320" y="2701800"/>
              <a:ext cx="3330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www.fas.gov.ru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9"/>
            <p:cNvSpPr/>
            <p:nvPr/>
          </p:nvSpPr>
          <p:spPr>
            <a:xfrm>
              <a:off x="3505320" y="3414600"/>
              <a:ext cx="3330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FAS-book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0"/>
            <p:cNvSpPr/>
            <p:nvPr/>
          </p:nvSpPr>
          <p:spPr>
            <a:xfrm>
              <a:off x="3505320" y="4108680"/>
              <a:ext cx="3483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333399"/>
                  </a:solidFill>
                  <a:latin typeface="Arial"/>
                  <a:ea typeface="Arial"/>
                </a:rPr>
                <a:t>rus_fa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Этимолог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староитальян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sicare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тваживаться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француз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sque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пасность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«Риск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- от греческ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rizikon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означающе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утес», «скала»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2D72-2AFE-47E0-AF05-BE9A6224E15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Риск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пас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возникновения непредвиденных потерь ожидаемой прибыли, дохода или имущества, денежных средств, других ресурсов в связи со случайным изменением условий экономической деятельности, неблагоприятными обстоятельствами. Измеряется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частотой, вероятностью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озникновения того или иного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ровн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отерь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Райзберг Б.А., Лозовский Л.Ш., Стародубцева Е.Б. «Современный экономический словарь»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C352-396B-4846-8A13-02BAC5521695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Следует отделять от смежных понятий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Вероятность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отношение благоприятных исходов к общему числу возможных исходов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Шансы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отношение числа благоприятных исходов к числу неблагоприятных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Угроза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– это неисследованное негативное событие, которое затруднительно оценить при оценке риска, потому что это событие никогда не происходило, и по нему не доступна никакая информация о эффективных профилактических мерах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8974-E5A7-4834-B0C8-E0BA7356AB1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Стандарт Банка Росси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«Обеспечение информационной безопасности организаций банковской системы Российской Федерации. Общие положения» СТО БР ИББС-1.0-2014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3.20.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гроза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Опасност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предполагающая возможность потерь (ущерба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3.21.)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иск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Мер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учитывающая вероятность реализации угрозы и величину потерь (ущерба) от реализации этой угрозы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83FA-847B-443E-BA86-DCF2274DC9D3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нятие риска (общее) и комплаенс-риск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каз Президента РФ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от 31.12.2015 № 683 «О Стратегии национальной безопасности Российской Федерации»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56.)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Главными стратегическими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угрозами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национальной безопасности в области экономики являются ее низкая конкурентоспособность, сохранение экспортно-сырьевой модели развития и высокая зависимость от внешнеэкономической конъюнктуры..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(24.) 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… На фоне структурных дисбалансов в мировой экономике и финансовой системе, растущей суверенной задолженности, волатильности рынка энергоресурсов сохраняется высокий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риск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повторения масштабных финансово-экономических кризисов.</a:t>
            </a:r>
            <a:endParaRPr b="0" lang="en-US" sz="2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A880-5299-4126-9439-3A6562093D20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Кашунина Ирина Валерьевна</dc:creator>
  <dc:description/>
  <dc:language>en-US</dc:language>
  <cp:lastModifiedBy>Бабошина Алина Олеговна</cp:lastModifiedBy>
  <cp:lastPrinted>2018-10-05T11:20:15Z</cp:lastPrinted>
  <dcterms:modified xsi:type="dcterms:W3CDTF">2019-01-25T11:13:07Z</dcterms:modified>
  <cp:revision>1921</cp:revision>
  <dc:subject/>
  <dc:title>Слайд 1</dc:title>
</cp:coreProperties>
</file>